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9BCB-F1B2-4B74-B2AA-DA2742C1B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E472-26C6-4625-8BD3-042B3E945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A11-8426-4C6A-9F3B-E8E1AE6B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B4C-A8B3-4447-8532-09CBDBCD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416-7A57-416A-92B9-086FCC40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30A-6345-4038-8D4E-28A1CBDF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85E9-2821-4B7E-8156-8246AC52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2235-2BDC-45FF-9B0F-12962AE0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C11E-220E-4600-B810-EF750C29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D431-5AAA-4733-AB9D-3E670893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40BA-71BE-4CD0-B56C-E0922AAA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7BBF-8799-4D89-9562-7F7A23D0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6D38-00F0-4806-9A8D-195DABE9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9525-456D-4335-8ECC-35C22B64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76A9-D7A7-468F-8220-65692C84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682F-6A86-4B60-B37A-E8701082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685A-04AF-4666-97B6-52673ACE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A74C-16F6-46BA-9708-7D3DAA82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5A6D-5026-44A4-9142-A74A8FB0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B6C-097A-41A9-B069-B31C8195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FBB-630D-4626-9A55-AF5EC0A5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A42-240B-4788-AE74-0731B061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88F-0107-4DEC-92FE-E96FF213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58E-ABD8-47C6-AE3C-2C7BF596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C1D-3F2B-4FCA-B898-EB30134C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334-3E07-4BFA-A0C5-9770DF4C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E5A5-1B96-4F4C-8E0D-9B8750AFE5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CDB8-D649-406A-A599-7EB84ECE0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hemical Reactions and Enzy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Alex\Desktop\Send Back to FTP\LO banner art\BIO10NAE_01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hemical Reactions and Enzy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Alex\Desktop\Send Back to FTP\LO banner art\BIO10NAE_28_LOT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lex\Desktop\Send Back to FTP\LO banner art\BIO10NAE_01_LOT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1479-A01F-4D57-91F4-432DF2C548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9FE1-CAC7-49F6-BBBC-25A18952B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:\Users\Alex\Desktop\Send Back to FTP\LO stills - splash screens\BIO10NAE_24_CTBG.jpg"/>
          <p:cNvPicPr/>
          <p:nvPr/>
        </p:nvPicPr>
        <p:blipFill>
          <a:blip r:embed="rId1"/>
          <a:stretch/>
        </p:blipFill>
        <p:spPr>
          <a:xfrm>
            <a:off x="228600" y="198360"/>
            <a:ext cx="4954680" cy="6354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81120" y="21333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Arial"/>
                <a:ea typeface="Arial"/>
              </a:rPr>
              <a:t>Lesson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28840" y="3219480"/>
            <a:ext cx="426708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 Chemical Reac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Enzy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Activation Energy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686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mical reactions that release energy do not always occur spontaneous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nergy that is needed to get a reaction started is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tion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Activation Energy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eak of each graph represents the energy needed for the reaction to go forwa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tivation energy is involved in chemical reactions whether or not the overall reaction releases or absorbs energ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E:\LESSON OVRVW batch 3\art\BIO10NAE_01_02_05_005_LRIM_02.png"/>
          <p:cNvPicPr/>
          <p:nvPr/>
        </p:nvPicPr>
        <p:blipFill>
          <a:blip r:embed="rId1"/>
          <a:stretch/>
        </p:blipFill>
        <p:spPr>
          <a:xfrm>
            <a:off x="0" y="419112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chemical reactions are too slow or have activation energies that are too high to make them practical for living tissu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se chemical reactions are made possible by catalysts.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taly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 substance that speeds up the rate of a chemical rea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talysts work by lowering a reaction’s activation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Nature’s Catalyst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zym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re proteins that act as biological catalysts. They speed up chemical reactions that take place in cel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zymes act by lowering the activation energies, which has a dramatic effect on how quickly reactions are complet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E:\LESSON OVRVW batch 3\art\BIO10NAE_01_02_05_005_LRIM_03.png"/>
          <p:cNvPicPr/>
          <p:nvPr/>
        </p:nvPicPr>
        <p:blipFill>
          <a:blip r:embed="rId1"/>
          <a:stretch/>
        </p:blipFill>
        <p:spPr>
          <a:xfrm>
            <a:off x="0" y="419112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Nature’s Catalyst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8610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zymes are very specific, generally catalyzing only one chemical rea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of an enzyme’s name is usually derived from the reaction it catalyz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bonic anhydrase gets its name because it also catalyzes the reverse reaction that removes water from carbonic ac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The Enzyme-Substrate Complex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or a chemical reaction to take place, the reactants must collide with enough energy so that existing bonds will be broken and new bonds will be forme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f the reactants do not have enough energy, they will be unchanged after the collis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Enzymes provide a site where reactants can be brought together to react. Such a site reduces the energy needed for reac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The Enzyme-Substrate Complex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actants of enzyme-catalyzed reactions are known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stra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example, the enzyme carbonic anhydrase converts the substrates carbon dioxide and water into carbonic acid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E:\LESSON OVRVW batch 3\art\BIO10NAE_01_02_05_005_LRIM_04.png"/>
          <p:cNvPicPr/>
          <p:nvPr/>
        </p:nvPicPr>
        <p:blipFill>
          <a:blip r:embed="rId1"/>
          <a:stretch/>
        </p:blipFill>
        <p:spPr>
          <a:xfrm>
            <a:off x="5334120" y="1523880"/>
            <a:ext cx="355572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The Enzyme-Substrate Complex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12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substrates bind to a site on the enzyme called the active sit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active site and the substrates have complementary shap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fit is so precise that the active site and substrates are often compared to a lock and ke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E:\LESSON OVRVW batch 3\art\BIO10NAE_01_02_05_005_LRIM_05.png"/>
          <p:cNvPicPr/>
          <p:nvPr/>
        </p:nvPicPr>
        <p:blipFill>
          <a:blip r:embed="rId1"/>
          <a:stretch/>
        </p:blipFill>
        <p:spPr>
          <a:xfrm>
            <a:off x="952560" y="4724280"/>
            <a:ext cx="72388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Regulation of Enzyme Activity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mperature and pH are both factors that can affect the activity of enzym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zymes produced by human cells generally work best at temperatures close to 37°C (98.6°F), the normal temperature of the human bod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zymes work best at certain pH values. For example, the stomach enzyme pepsin, which begins protein digestion, works best under acidic conditio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ll Ri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each polymer list what its composed of (monom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bohyd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cleic Aci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ll Ri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the function of an enzyme or cataly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Daily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ain how chemical reactions affect chemical bo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Chemical Rea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emical rea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 a process that changes, or transforms, one set of chemicals into another by changing the chemical bonds that join atoms in compound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ss and energy are conserved during chemical reac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elements or compounds that enter into a chemical reaction are known 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actant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elements or compounds produced by a chemical reaction are known 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duct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Energy Change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ergy is released or absorbed whenever chemical bonds are formed or broken during chemical reactio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ergy changes are one of the most important factors in determining whether a chemical reaction will occu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emical reactions that release energy often occur on their own, or spontaneousl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emical reactions that absorb energy will not occur without a source of energ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Energy Change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example of an energy-releasing reaction is the burning of hydrogen gas, in which hydrogen reacts with oxygen to produce water vap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nergy is released in the form of heat, and sometimes—when hydrogen gas explodes—light and s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6"/>
          <p:cNvPicPr/>
          <p:nvPr/>
        </p:nvPicPr>
        <p:blipFill>
          <a:blip r:embed="rId1"/>
          <a:stretch/>
        </p:blipFill>
        <p:spPr>
          <a:xfrm>
            <a:off x="1752480" y="3124080"/>
            <a:ext cx="4608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Energy Change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verse reaction, in which water is changed into hydrogen and oxygen gas, absorbs so much energy that it generally doesn’t occur by itself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2H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O + Energy </a:t>
            </a:r>
            <a:r>
              <a:rPr b="0" lang="pt-B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2 H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+  O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 one direction the reaction produces energy, and in the other direction the reaction requires energ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Energy Source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organism must have a source of energy to carry out the chemical reactions it needs to stay aliv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ts get their energy by trapping and storing the energy from sunlight as glucose (chemical energy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imals get their energy when they consume plants or other anima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s release the energy from food during chemical reactions that occur when we metabolize, or break down, digested fo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8:50:32Z</dcterms:created>
  <dc:creator>Alex</dc:creator>
  <dc:description/>
  <dc:language>en-US</dc:language>
  <cp:lastModifiedBy>dzahm</cp:lastModifiedBy>
  <dcterms:modified xsi:type="dcterms:W3CDTF">2013-10-03T18:18:42Z</dcterms:modified>
  <cp:revision>95</cp:revision>
  <dc:subject/>
  <dc:title>Slide 1</dc:title>
</cp:coreProperties>
</file>